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A6BE-3E09-4489-AD31-4CBF7D03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092-D5AA-4274-9072-DFF60D34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27D-5200-4FCD-82CA-18F76676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AF8-2C53-4D21-BEB5-9F4D942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CE4-3091-454D-B8B5-D03B0D24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CFAD-7917-44CC-956C-B17A8E4D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F03-0C68-480A-B197-B3C8829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EA83-9DD5-499C-8267-9331F3F5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0C08-45EC-438F-85AD-6A590F1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605B-E04E-491F-AA95-3C71DDEA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5FAA-C2E1-4000-8434-C48827A1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E4E-5CC0-4473-A005-DBAF9FA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95A-AD2C-47C0-9394-6E02775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38A4-5237-46C5-AFB1-4BEFB24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202B-4B16-4EE4-9AA5-FFE112E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7D31-1E60-4616-BAE2-EA49DEE7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D03C-B199-439D-AB67-EBE92945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B52A-9114-46BD-B49F-EBC0435A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9E9-ED50-43EE-9A92-B4264264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634-D192-4D99-917C-12CFF5BD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578-AEE4-4EB6-8D33-03C2DFF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118-0848-48D6-A523-97B04C6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7AB-1B9B-4459-B25E-E34CAC4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2AA-327F-4BBC-A183-2AE5581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312-0F04-4C3D-8BB2-CCA944E7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EA53-5B16-4BF7-859B-7B3B7445127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464-3C38-465D-A93E-CE51F511523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419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3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9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07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08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01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anipulatives &amp; Technology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arouse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24440" y="2470320"/>
            <a:ext cx="3219480" cy="382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20640" y="233856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b78c"/>
                </a:solidFill>
                <a:latin typeface="Arial"/>
              </a:rPr>
              <a:t>Explore 5 out of 8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0800" y="2944800"/>
            <a:ext cx="345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A:  TI-N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B:  C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C:  Giz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D: 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E:   G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F:   Square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G:  Linking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H:  Real-lif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280" y="2402280"/>
            <a:ext cx="90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Big Ideas were address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rough the tasks you d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1200" y="143532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Mathematical Proces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did you exper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en answering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87280" y="3589200"/>
            <a:ext cx="28591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59880" y="2041560"/>
            <a:ext cx="602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How can you use a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of these tas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for stud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in your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7560" y="2495880"/>
            <a:ext cx="838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would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change or alter with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5320" y="2041560"/>
            <a:ext cx="645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task did you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e hardest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5720" y="2376720"/>
            <a:ext cx="67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ich task d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you find the easies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200" y="2151000"/>
            <a:ext cx="82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 parallel task that is appropriate for your    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6:16Z</dcterms:modified>
  <cp:revision>94</cp:revision>
  <dc:subject/>
  <dc:title>Slide 1</dc:title>
</cp:coreProperties>
</file>